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4.wmf" ContentType="image/x-wmf"/>
  <Override PartName="/ppt/media/image21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40.png" ContentType="image/pn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38.jpeg" ContentType="image/jpeg"/>
  <Override PartName="/ppt/media/image31.jpeg" ContentType="image/jpeg"/>
  <Override PartName="/ppt/media/image41.png" ContentType="image/png"/>
  <Override PartName="/ppt/media/image8.jpeg" ContentType="image/jpeg"/>
  <Override PartName="/ppt/media/image39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BE1B-A301-49DB-80F6-AC159255E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7C93-08E1-4CC2-A4C9-26E72BEDA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fences or teaching how to swim?  Unless we get in the water with them, we will not be a presence in their world.  We need to teach them how to behave in a virtual and a real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xamples from each of u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 – IM, Text msg. and 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s – Blog and Flic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y – Webcam and You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2306-51C8-41B2-A45D-23ECA00EA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2C9B-96B2-49D0-8DD7-3D642E8F3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BF97-ECF6-4B14-A6F6-A5B751BDF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84E6-B4A3-4352-AF6F-C8B240E8D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1F6C-80A9-46EB-801B-F019A6178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8 or 9 might be a nice place to put the Batman (utility belt) and terminator (integrated) pics.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3F79-B1FF-445A-B5E9-D11E06A7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5FD-1807-431F-B77E-3707FEFD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0B8-7176-4EB1-B9D6-D4480B90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6B1-8D1E-4B59-84BE-AF27AEA2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F892-0049-4968-8232-91951BEC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BE71-E832-4E94-8A20-6C4C5CB2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1CFA-149F-4E63-A383-44EBCD69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74C6-7180-4A3C-A0BE-AF216EA0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BEBC-F22B-4336-BE9E-03311E3E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EC4B-78AC-440F-B2C7-AEF02B77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DAA1-4BD5-498D-97D5-D83C53ED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7AC-BC2A-47FB-9DFE-41388C01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E2D0-1233-4324-818B-3FCCE667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DDB7-5A61-49FC-BE52-EAF064DD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2331-F941-425E-A08E-476CED8F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7CD2-F768-474E-AE58-9495B7B9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3397-7611-4A01-B56C-F7012C71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FB2-70EF-4A62-AC5D-94F34130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1BE3-1AF9-4264-9AD2-37851D7A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01D-8427-49F7-A51E-A5C8F20F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A3E-41BB-40E4-A835-66B4FC37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429-1625-45BC-AA96-EC25D34C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DCD4-98BF-45D3-9A58-0776AEE7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798-69C5-467E-9027-7BB5ADD8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895E-1F98-42E4-8813-ADD676FC6F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411A-D826-4499-8A30-C468281130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image" Target="../media/image36.png"/><Relationship Id="rId14" Type="http://schemas.openxmlformats.org/officeDocument/2006/relationships/image" Target="../media/image37.jpeg"/><Relationship Id="rId15" Type="http://schemas.openxmlformats.org/officeDocument/2006/relationships/image" Target="../media/image38.jpe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cybercomm.nl/%7Eivo/photo_GEORGE.html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Parenting the “Net Generation”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makes our kids “click”?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0" name="Picture 19" descr="C:\Documents and Settings\dsands\Local Settings\Temporary Internet Files\Content.IE5\MH2PM2HO\MP900439416[1].jpg"/>
          <p:cNvPicPr/>
          <p:nvPr/>
        </p:nvPicPr>
        <p:blipFill>
          <a:blip r:embed="rId1"/>
          <a:stretch/>
        </p:blipFill>
        <p:spPr>
          <a:xfrm>
            <a:off x="1258920" y="2492280"/>
            <a:ext cx="3646440" cy="3646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5796000" y="4221000"/>
            <a:ext cx="309708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cott Creek P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April 27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cott Creek Mid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are thei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Impact"/>
              </a:rPr>
              <a:t>nee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though the world has changed dramatically, our kids “needs” remain the s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30" descr="http://www.dbtechno.com/images/teen_girls_phone.jpg"/>
          <p:cNvPicPr/>
          <p:nvPr/>
        </p:nvPicPr>
        <p:blipFill>
          <a:blip r:embed="rId1"/>
          <a:stretch/>
        </p:blipFill>
        <p:spPr>
          <a:xfrm>
            <a:off x="4714920" y="2643120"/>
            <a:ext cx="3514680" cy="3503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dsands\AppData\Local\Microsoft\Windows\Temporary Internet Files\Content.IE5\SKS20IM7\MC910215885[1].jpg"/>
          <p:cNvPicPr/>
          <p:nvPr/>
        </p:nvPicPr>
        <p:blipFill>
          <a:blip r:embed="rId2"/>
          <a:stretch/>
        </p:blipFill>
        <p:spPr>
          <a:xfrm>
            <a:off x="755640" y="3141720"/>
            <a:ext cx="368316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y do they go online/use technology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needs does it mee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e of Belon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ing he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Pj04312170000[1]"/>
          <p:cNvPicPr/>
          <p:nvPr/>
        </p:nvPicPr>
        <p:blipFill>
          <a:blip r:embed="rId1"/>
          <a:stretch/>
        </p:blipFill>
        <p:spPr>
          <a:xfrm>
            <a:off x="5364000" y="2133720"/>
            <a:ext cx="3024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Impact"/>
              </a:rPr>
              <a:t>The Places They Go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4" name="Picture 8" descr="MCj03126460000[1]"/>
          <p:cNvPicPr/>
          <p:nvPr/>
        </p:nvPicPr>
        <p:blipFill>
          <a:blip r:embed="rId1"/>
          <a:stretch/>
        </p:blipFill>
        <p:spPr>
          <a:xfrm>
            <a:off x="3635280" y="2276640"/>
            <a:ext cx="2071800" cy="211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www.seattlebeerweek.com/images/twitter_logo.png"/>
          <p:cNvPicPr/>
          <p:nvPr/>
        </p:nvPicPr>
        <p:blipFill>
          <a:blip r:embed="rId2"/>
          <a:stretch/>
        </p:blipFill>
        <p:spPr>
          <a:xfrm>
            <a:off x="5867280" y="4149720"/>
            <a:ext cx="2882880" cy="1065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www.retirement-jobs-online.com/images/ebay-logo.jpg"/>
          <p:cNvPicPr/>
          <p:nvPr/>
        </p:nvPicPr>
        <p:blipFill>
          <a:blip r:embed="rId3"/>
          <a:stretch/>
        </p:blipFill>
        <p:spPr>
          <a:xfrm rot="20276400">
            <a:off x="356760" y="5429160"/>
            <a:ext cx="1274760" cy="1208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www.mspmentor.net/wp-content/uploads/2009/02/mspmentor-and-the-var-guy-podcasts-on-itunes.jpg"/>
          <p:cNvPicPr/>
          <p:nvPr/>
        </p:nvPicPr>
        <p:blipFill>
          <a:blip r:embed="rId4"/>
          <a:stretch/>
        </p:blipFill>
        <p:spPr>
          <a:xfrm>
            <a:off x="4427640" y="4365720"/>
            <a:ext cx="1191960" cy="1208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images3.jpg"/>
          <p:cNvPicPr/>
          <p:nvPr/>
        </p:nvPicPr>
        <p:blipFill>
          <a:blip r:embed="rId5"/>
          <a:stretch/>
        </p:blipFill>
        <p:spPr>
          <a:xfrm>
            <a:off x="468360" y="3213000"/>
            <a:ext cx="1727280" cy="1001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images.jpg"/>
          <p:cNvPicPr/>
          <p:nvPr/>
        </p:nvPicPr>
        <p:blipFill>
          <a:blip r:embed="rId6"/>
          <a:stretch/>
        </p:blipFill>
        <p:spPr>
          <a:xfrm rot="954000">
            <a:off x="6519600" y="852480"/>
            <a:ext cx="2340000" cy="88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imagesCAKTRLBD.jpg"/>
          <p:cNvPicPr/>
          <p:nvPr/>
        </p:nvPicPr>
        <p:blipFill>
          <a:blip r:embed="rId7"/>
          <a:stretch/>
        </p:blipFill>
        <p:spPr>
          <a:xfrm>
            <a:off x="2843280" y="5322960"/>
            <a:ext cx="1700280" cy="1535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imagesCAOEUU8Y.jpg"/>
          <p:cNvPicPr/>
          <p:nvPr/>
        </p:nvPicPr>
        <p:blipFill>
          <a:blip r:embed="rId8"/>
          <a:stretch/>
        </p:blipFill>
        <p:spPr>
          <a:xfrm>
            <a:off x="4211640" y="981000"/>
            <a:ext cx="2039760" cy="122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imagesCA7FS46N.jpg"/>
          <p:cNvPicPr/>
          <p:nvPr/>
        </p:nvPicPr>
        <p:blipFill>
          <a:blip r:embed="rId9"/>
          <a:stretch/>
        </p:blipFill>
        <p:spPr>
          <a:xfrm rot="1389000">
            <a:off x="7667280" y="530064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" descr="imagesCAN03YNH.jpg"/>
          <p:cNvPicPr/>
          <p:nvPr/>
        </p:nvPicPr>
        <p:blipFill>
          <a:blip r:embed="rId10"/>
          <a:stretch/>
        </p:blipFill>
        <p:spPr>
          <a:xfrm>
            <a:off x="5435640" y="5445000"/>
            <a:ext cx="2004840" cy="11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3" descr="imagesCAV824PJ.jpg"/>
          <p:cNvPicPr/>
          <p:nvPr/>
        </p:nvPicPr>
        <p:blipFill>
          <a:blip r:embed="rId11"/>
          <a:stretch/>
        </p:blipFill>
        <p:spPr>
          <a:xfrm>
            <a:off x="468360" y="2205000"/>
            <a:ext cx="2879640" cy="795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4" descr="imagesCAOF6IPG.jpg"/>
          <p:cNvPicPr/>
          <p:nvPr/>
        </p:nvPicPr>
        <p:blipFill>
          <a:blip r:embed="rId12"/>
          <a:stretch/>
        </p:blipFill>
        <p:spPr>
          <a:xfrm>
            <a:off x="7596360" y="2637000"/>
            <a:ext cx="1296720" cy="1296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5" descr="untitlewd.bmp"/>
          <p:cNvPicPr/>
          <p:nvPr/>
        </p:nvPicPr>
        <p:blipFill>
          <a:blip r:embed="rId13"/>
          <a:stretch/>
        </p:blipFill>
        <p:spPr>
          <a:xfrm>
            <a:off x="1258920" y="90792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6" descr="imagesCA71CM7J.jpg"/>
          <p:cNvPicPr/>
          <p:nvPr/>
        </p:nvPicPr>
        <p:blipFill>
          <a:blip r:embed="rId14"/>
          <a:stretch/>
        </p:blipFill>
        <p:spPr>
          <a:xfrm>
            <a:off x="6012000" y="270828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7" descr="imagesCAW4N5TV.jpg"/>
          <p:cNvPicPr/>
          <p:nvPr/>
        </p:nvPicPr>
        <p:blipFill>
          <a:blip r:embed="rId15"/>
          <a:stretch/>
        </p:blipFill>
        <p:spPr>
          <a:xfrm>
            <a:off x="1116000" y="4076640"/>
            <a:ext cx="2247840" cy="14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THE CHALLENGES THEY FACE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900000" y="1557360"/>
            <a:ext cx="7632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problems (Obes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  dys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BartSlrg_twt_reasonably_small.jpg"/>
          <p:cNvPicPr/>
          <p:nvPr/>
        </p:nvPicPr>
        <p:blipFill>
          <a:blip r:embed="rId1"/>
          <a:stretch/>
        </p:blipFill>
        <p:spPr>
          <a:xfrm>
            <a:off x="6012000" y="1484280"/>
            <a:ext cx="252072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“WE” want for our children…with technology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57120" y="192888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afet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92d050"/>
                </a:solidFill>
                <a:latin typeface="Arial"/>
              </a:rPr>
              <a:t>Balanc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Healthy 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screen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gital Literac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Digital Respon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Positiv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Social Networking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Responsible E-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1835280" y="59500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how do we ge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are </a:t>
            </a:r>
            <a:r>
              <a:rPr b="0" lang="en-US" sz="3600" spc="-1" strike="noStrike" u="sng">
                <a:solidFill>
                  <a:srgbClr val="0070c0"/>
                </a:solidFill>
                <a:uFillTx/>
                <a:latin typeface="Impact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going to do about i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7120" y="785520"/>
            <a:ext cx="8501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expecta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Proactiv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th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onversatio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generate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ow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s (YouTube videos, case-based scenarios, teachable moment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ablish a respons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“plan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Reactiv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available to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“support not punish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rve your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relationsh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attach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7164360" cy="4478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2916360" y="2924280"/>
            <a:ext cx="5854680" cy="3660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images.jpg"/>
          <p:cNvPicPr/>
          <p:nvPr/>
        </p:nvPicPr>
        <p:blipFill>
          <a:blip r:embed="rId3"/>
          <a:stretch/>
        </p:blipFill>
        <p:spPr>
          <a:xfrm>
            <a:off x="3348000" y="0"/>
            <a:ext cx="2736720" cy="103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Impact"/>
              </a:rPr>
              <a:t>Be Involved and connect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onlin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act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 game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ag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…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with THEM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Kids.JPG"/>
          <p:cNvPicPr/>
          <p:nvPr/>
        </p:nvPicPr>
        <p:blipFill>
          <a:blip r:embed="rId1"/>
          <a:stretch/>
        </p:blipFill>
        <p:spPr>
          <a:xfrm>
            <a:off x="5429160" y="1143000"/>
            <a:ext cx="26258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tact information and Resourc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371600" y="1071360"/>
            <a:ext cx="77724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San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ands@sd43.bc.ca or dave.h.sands@gmail.c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connectandprotect.wikispaces.com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only the beginning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Impact"/>
              </a:rPr>
              <a:t>Homework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14240" y="8568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it my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Wiki pag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look at 3 different articles/video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online and establish 3 new accounts on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web 2.0 too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e.g. Facebook, Club Penguin, MSN, Youtube, ePets, Twitter, WebKins, etc.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Tal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your child/ren about one or more of these tool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do we want for our ki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3" name="Diagram 3" descr=""/>
          <p:cNvPicPr/>
          <p:nvPr/>
        </p:nvPicPr>
        <p:blipFill>
          <a:blip r:embed="rId1"/>
          <a:stretch/>
        </p:blipFill>
        <p:spPr>
          <a:xfrm>
            <a:off x="712800" y="1268280"/>
            <a:ext cx="7778880" cy="51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2560" y="837720"/>
            <a:ext cx="7772400" cy="525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 Theory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haly Csikszentmihaly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1981080" y="48769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 flipV="1">
            <a:off x="1981080" y="1447560"/>
            <a:ext cx="7632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743200" y="5181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733920" y="5181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 rot="5400000">
            <a:off x="74520" y="34275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1981080" y="251460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2057400" y="243828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3124080" y="1600200"/>
            <a:ext cx="251460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 flipH="1" flipV="1">
            <a:off x="3733560" y="1523880"/>
            <a:ext cx="1447560" cy="33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133720" y="4038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2057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22096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3886200" y="144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5181480" y="2133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52578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5029200" y="3962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3581280" y="4191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 Questions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0080" y="114264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of you have a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personal profi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ine? Facebook? MySpa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ere engages in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Text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of you have an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Pod/iPh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Blackberry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plays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video ga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facebook-mobile.jpg"/>
          <p:cNvPicPr/>
          <p:nvPr/>
        </p:nvPicPr>
        <p:blipFill>
          <a:blip r:embed="rId1"/>
          <a:stretch/>
        </p:blipFill>
        <p:spPr>
          <a:xfrm>
            <a:off x="7020000" y="4005360"/>
            <a:ext cx="138888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more questions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0008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/are your computers in your  hom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plac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mi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n your Children’s computer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as had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vers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their child about Internet Safety or Cyberbully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ere has adopt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amily expecta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or children around online/computer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earning Inten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761760"/>
            <a:ext cx="8893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gain a better understanding of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o our children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their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nee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xamine our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hildren’s 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echnolog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increase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our awarenes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potential challenges around technology us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provide you with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upport and resourc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better understand these issu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ncourage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ractical, proactive parenting strategi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maintain connections with your children around technology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member Wh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 was a lot simpler when we were kid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32872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ight?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Fred Flintstone"/>
          <p:cNvPicPr/>
          <p:nvPr/>
        </p:nvPicPr>
        <p:blipFill>
          <a:blip r:embed="rId1"/>
          <a:stretch/>
        </p:blipFill>
        <p:spPr>
          <a:xfrm>
            <a:off x="857160" y="2643120"/>
            <a:ext cx="1238400" cy="2381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photo_GEOR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5072040"/>
            <a:ext cx="1628640" cy="127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The Bridge"/>
          <p:cNvPicPr/>
          <p:nvPr/>
        </p:nvPicPr>
        <p:blipFill>
          <a:blip r:embed="rId4"/>
          <a:stretch/>
        </p:blipFill>
        <p:spPr>
          <a:xfrm>
            <a:off x="3000240" y="4143240"/>
            <a:ext cx="3019680" cy="2229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jeannie001"/>
          <p:cNvPicPr/>
          <p:nvPr/>
        </p:nvPicPr>
        <p:blipFill>
          <a:blip r:embed="rId5"/>
          <a:stretch/>
        </p:blipFill>
        <p:spPr>
          <a:xfrm>
            <a:off x="4643280" y="1714680"/>
            <a:ext cx="1428840" cy="226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elvis-portrait3sm"/>
          <p:cNvPicPr/>
          <p:nvPr/>
        </p:nvPicPr>
        <p:blipFill>
          <a:blip r:embed="rId6"/>
          <a:stretch/>
        </p:blipFill>
        <p:spPr>
          <a:xfrm>
            <a:off x="7572240" y="2643120"/>
            <a:ext cx="1133640" cy="1511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Woodstock Festival Remembered"/>
          <p:cNvPicPr/>
          <p:nvPr/>
        </p:nvPicPr>
        <p:blipFill>
          <a:blip r:embed="rId7"/>
          <a:stretch/>
        </p:blipFill>
        <p:spPr>
          <a:xfrm>
            <a:off x="6300720" y="4292640"/>
            <a:ext cx="1714680" cy="2095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Happy days.jpg"/>
          <p:cNvPicPr/>
          <p:nvPr/>
        </p:nvPicPr>
        <p:blipFill>
          <a:blip r:embed="rId8"/>
          <a:stretch/>
        </p:blipFill>
        <p:spPr>
          <a:xfrm>
            <a:off x="2500200" y="2714760"/>
            <a:ext cx="1667160" cy="1171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gilligans-island-season-2.jpg"/>
          <p:cNvPicPr/>
          <p:nvPr/>
        </p:nvPicPr>
        <p:blipFill>
          <a:blip r:embed="rId9"/>
          <a:stretch/>
        </p:blipFill>
        <p:spPr>
          <a:xfrm>
            <a:off x="7585200" y="357120"/>
            <a:ext cx="1558800" cy="1817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Rubics cube.jpg"/>
          <p:cNvPicPr/>
          <p:nvPr/>
        </p:nvPicPr>
        <p:blipFill>
          <a:blip r:embed="rId10"/>
          <a:stretch/>
        </p:blipFill>
        <p:spPr>
          <a:xfrm>
            <a:off x="6429240" y="1928880"/>
            <a:ext cx="1047960" cy="1114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Atari_2600.png"/>
          <p:cNvPicPr/>
          <p:nvPr/>
        </p:nvPicPr>
        <p:blipFill>
          <a:blip r:embed="rId11"/>
          <a:stretch/>
        </p:blipFill>
        <p:spPr>
          <a:xfrm>
            <a:off x="285840" y="1214280"/>
            <a:ext cx="1352520" cy="13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World has chang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Friedm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The World is Fla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http://www.collegerecruiter.com/mt-static/plugins/ImageUp/uploaded/59449012046058the-world-is-flat-thomas-friedman-book.jpg"/>
          <p:cNvPicPr/>
          <p:nvPr/>
        </p:nvPicPr>
        <p:blipFill>
          <a:blip r:embed="rId1"/>
          <a:stretch/>
        </p:blipFill>
        <p:spPr>
          <a:xfrm>
            <a:off x="3357720" y="2143080"/>
            <a:ext cx="2684160" cy="40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Impact"/>
              </a:rPr>
              <a:t>For our childr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children have never not known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is f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is seaml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are wireless, yet always connec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FEATUREbeingbatman3"/>
          <p:cNvPicPr/>
          <p:nvPr/>
        </p:nvPicPr>
        <p:blipFill>
          <a:blip r:embed="rId1"/>
          <a:stretch/>
        </p:blipFill>
        <p:spPr>
          <a:xfrm>
            <a:off x="5651640" y="1197000"/>
            <a:ext cx="3152520" cy="2367000"/>
          </a:xfrm>
          <a:prstGeom prst="rect">
            <a:avLst/>
          </a:prstGeom>
          <a:ln w="0">
            <a:noFill/>
          </a:ln>
        </p:spPr>
      </p:pic>
      <p:pic>
        <p:nvPicPr>
          <p:cNvPr id="120" name="Content Placeholder 5" descr="itouch.jpg"/>
          <p:cNvPicPr/>
          <p:nvPr/>
        </p:nvPicPr>
        <p:blipFill>
          <a:blip r:embed="rId2"/>
          <a:stretch/>
        </p:blipFill>
        <p:spPr>
          <a:xfrm>
            <a:off x="6084720" y="4149720"/>
            <a:ext cx="2195640" cy="16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gle” has always been a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messaging is their e-m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have rarely mailed anything using a sta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Terminator%202"/>
          <p:cNvPicPr/>
          <p:nvPr/>
        </p:nvPicPr>
        <p:blipFill>
          <a:blip r:embed="rId1"/>
          <a:stretch/>
        </p:blipFill>
        <p:spPr>
          <a:xfrm>
            <a:off x="5580000" y="1125360"/>
            <a:ext cx="2592360" cy="39164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4929120" y="607212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C:\Users\dsands\AppData\Local\Microsoft\Windows\Temporary Internet Files\Content.IE5\D6IV12U4\MC900434595[1].wmf"/>
          <p:cNvPicPr/>
          <p:nvPr/>
        </p:nvPicPr>
        <p:blipFill>
          <a:blip r:embed="rId2"/>
          <a:stretch/>
        </p:blipFill>
        <p:spPr>
          <a:xfrm>
            <a:off x="1908000" y="4437000"/>
            <a:ext cx="2543400" cy="195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School District 43</cp:lastModifiedBy>
  <dcterms:modified xsi:type="dcterms:W3CDTF">2011-04-26T20:23:06Z</dcterms:modified>
  <cp:revision>77</cp:revision>
  <dc:subject/>
  <dc:title>Technology, kids and you</dc:title>
</cp:coreProperties>
</file>